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9BB-38DE-484B-929E-DE7FB3CC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2DD-F957-4E93-B059-2F7108DC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9E6-A853-4097-A834-163A7243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549-C88B-41DB-A74A-A4C05913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216-D1B3-4298-BF73-8241FB3B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288-3915-4F48-832F-D9D6D365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8A7-85DA-4160-952D-1024A994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E0B-776D-4770-BD49-DE98497D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558-0F98-430F-9AD5-D472384A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70E-AFF1-46FB-BCB8-224473EB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A4E-03FF-4FCA-8767-734C3F0F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8DB-0FB1-41E5-9441-E9E74512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DAEF-7475-4A4C-9826-EEE79EF0E79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4F73-F882-4451-B115-742C4EC4E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731000" cy="38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Информация для граждан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о проекте бюджета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муниципального образования поселок Заполярный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на 2016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уктура налоговых и неналоговых доходов проекта бюджета на 2016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8" descr=""/>
          <p:cNvPicPr/>
          <p:nvPr/>
        </p:nvPicPr>
        <p:blipFill>
          <a:blip r:embed="rId2"/>
          <a:stretch/>
        </p:blipFill>
        <p:spPr>
          <a:xfrm>
            <a:off x="214200" y="642960"/>
            <a:ext cx="8471160" cy="575640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BE19-8DF6-4A2A-9F9B-DC5E9555B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  <a:ea typeface="Times New Roman"/>
              </a:rPr>
              <a:t>Динамика налоговых и неналоговых  доходов  (2014– 2016 годы)</a:t>
            </a:r>
            <a:r>
              <a:rPr b="1" lang="en-US" sz="1800" spc="-1" strike="noStrike">
                <a:solidFill>
                  <a:srgbClr val="0d0d0d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324000" y="1122480"/>
            <a:ext cx="8613720" cy="4613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928800" y="5357880"/>
            <a:ext cx="1500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57160" y="1357200"/>
          <a:ext cx="714600" cy="285840"/>
        </p:xfrm>
        <a:graphic>
          <a:graphicData uri="http://schemas.openxmlformats.org/drawingml/2006/table">
            <a:tbl>
              <a:tblPr/>
              <a:tblGrid>
                <a:gridCol w="714600"/>
              </a:tblGrid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500880" y="1428840"/>
          <a:ext cx="879480" cy="28584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071800" y="1357200"/>
          <a:ext cx="714240" cy="285840"/>
        </p:xfrm>
        <a:graphic>
          <a:graphicData uri="http://schemas.openxmlformats.org/drawingml/2006/table">
            <a:tbl>
              <a:tblPr/>
              <a:tblGrid>
                <a:gridCol w="714240"/>
              </a:tblGrid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214800" y="1341360"/>
          <a:ext cx="714240" cy="287280"/>
        </p:xfrm>
        <a:graphic>
          <a:graphicData uri="http://schemas.openxmlformats.org/drawingml/2006/table">
            <a:tbl>
              <a:tblPr/>
              <a:tblGrid>
                <a:gridCol w="714240"/>
              </a:tblGrid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429080" y="1268280"/>
          <a:ext cx="714600" cy="287640"/>
        </p:xfrm>
        <a:graphic>
          <a:graphicData uri="http://schemas.openxmlformats.org/drawingml/2006/table">
            <a:tbl>
              <a:tblPr/>
              <a:tblGrid>
                <a:gridCol w="714600"/>
              </a:tblGrid>
              <a:tr h="2876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286240" y="1125360"/>
          <a:ext cx="642960" cy="374760"/>
        </p:xfrm>
        <a:graphic>
          <a:graphicData uri="http://schemas.openxmlformats.org/drawingml/2006/table">
            <a:tbl>
              <a:tblPr/>
              <a:tblGrid>
                <a:gridCol w="64296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C0F8-CC26-4D23-818A-A4A9F02C1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Динамика безвозмездных поступлений, передаваемых из бюджета Администрации МО Надымский район в бюджет МО поселок Заполярный в 2016 году в сравнении с 2015 годом (тыс.руб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"/>
          <p:cNvPicPr/>
          <p:nvPr/>
        </p:nvPicPr>
        <p:blipFill>
          <a:blip r:embed="rId1"/>
          <a:stretch/>
        </p:blipFill>
        <p:spPr>
          <a:xfrm>
            <a:off x="5479920" y="979560"/>
            <a:ext cx="3299040" cy="1798560"/>
          </a:xfrm>
          <a:prstGeom prst="rect">
            <a:avLst/>
          </a:prstGeom>
          <a:ln w="0">
            <a:noFill/>
          </a:ln>
        </p:spPr>
      </p:pic>
      <p:pic>
        <p:nvPicPr>
          <p:cNvPr id="82" name="Object 5" descr=""/>
          <p:cNvPicPr/>
          <p:nvPr/>
        </p:nvPicPr>
        <p:blipFill>
          <a:blip r:embed="rId2"/>
          <a:stretch/>
        </p:blipFill>
        <p:spPr>
          <a:xfrm>
            <a:off x="5551560" y="4479840"/>
            <a:ext cx="3327480" cy="1970280"/>
          </a:xfrm>
          <a:prstGeom prst="rect">
            <a:avLst/>
          </a:prstGeom>
          <a:ln w="0">
            <a:noFill/>
          </a:ln>
        </p:spPr>
      </p:pic>
      <p:pic>
        <p:nvPicPr>
          <p:cNvPr id="83" name="Object 6" descr=""/>
          <p:cNvPicPr/>
          <p:nvPr/>
        </p:nvPicPr>
        <p:blipFill>
          <a:blip r:embed="rId3"/>
          <a:stretch/>
        </p:blipFill>
        <p:spPr>
          <a:xfrm>
            <a:off x="50760" y="765000"/>
            <a:ext cx="5113440" cy="4042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8"/>
          <p:cNvSpPr/>
          <p:nvPr/>
        </p:nvSpPr>
        <p:spPr>
          <a:xfrm>
            <a:off x="5643720" y="6000840"/>
            <a:ext cx="335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тации на выравнивание уровня бюджетной обеспеч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ject 8" descr=""/>
          <p:cNvPicPr/>
          <p:nvPr/>
        </p:nvPicPr>
        <p:blipFill>
          <a:blip r:embed="rId4"/>
          <a:stretch/>
        </p:blipFill>
        <p:spPr>
          <a:xfrm>
            <a:off x="193680" y="4836960"/>
            <a:ext cx="4941720" cy="179892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28"/>
          <p:cNvCxnSpPr/>
          <p:nvPr/>
        </p:nvCxnSpPr>
        <p:spPr>
          <a:xfrm flipH="1" flipV="1">
            <a:off x="3714480" y="3714120"/>
            <a:ext cx="714960" cy="1500840"/>
          </a:xfrm>
          <a:prstGeom prst="straightConnector1">
            <a:avLst/>
          </a:prstGeom>
          <a:ln w="25560">
            <a:solidFill>
              <a:srgbClr val="262626"/>
            </a:solidFill>
            <a:miter/>
            <a:tailEnd len="med" type="arrow" w="med"/>
          </a:ln>
        </p:spPr>
      </p:cxnSp>
      <p:cxnSp>
        <p:nvCxnSpPr>
          <p:cNvPr id="87" name="Прямая со стрелкой 29"/>
          <p:cNvCxnSpPr/>
          <p:nvPr/>
        </p:nvCxnSpPr>
        <p:spPr>
          <a:xfrm flipH="1" flipV="1">
            <a:off x="3785400" y="3499560"/>
            <a:ext cx="1715400" cy="1429560"/>
          </a:xfrm>
          <a:prstGeom prst="straightConnector1">
            <a:avLst/>
          </a:prstGeom>
          <a:ln w="25560">
            <a:solidFill>
              <a:srgbClr val="262626"/>
            </a:solidFill>
            <a:miter/>
            <a:tailEnd len="med" type="arrow" w="med"/>
          </a:ln>
        </p:spPr>
      </p:cxnSp>
      <p:cxnSp>
        <p:nvCxnSpPr>
          <p:cNvPr id="88" name="Прямая со стрелкой 30"/>
          <p:cNvCxnSpPr/>
          <p:nvPr/>
        </p:nvCxnSpPr>
        <p:spPr>
          <a:xfrm flipH="1" flipV="1">
            <a:off x="3857040" y="3285360"/>
            <a:ext cx="1572120" cy="2520"/>
          </a:xfrm>
          <a:prstGeom prst="straightConnector1">
            <a:avLst/>
          </a:prstGeom>
          <a:ln w="25560">
            <a:solidFill>
              <a:srgbClr val="262626"/>
            </a:solidFill>
            <a:miter/>
            <a:tailEnd len="med" type="arrow" w="med"/>
          </a:ln>
        </p:spPr>
      </p:cxnSp>
      <p:cxnSp>
        <p:nvCxnSpPr>
          <p:cNvPr id="89" name="Прямая со стрелкой 31"/>
          <p:cNvCxnSpPr/>
          <p:nvPr/>
        </p:nvCxnSpPr>
        <p:spPr>
          <a:xfrm flipH="1" flipV="1">
            <a:off x="3785400" y="2141280"/>
            <a:ext cx="1786680" cy="2160"/>
          </a:xfrm>
          <a:prstGeom prst="straightConnector1">
            <a:avLst/>
          </a:prstGeom>
          <a:ln w="2556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90" name="Номер слайда 19"/>
          <p:cNvSpPr/>
          <p:nvPr/>
        </p:nvSpPr>
        <p:spPr>
          <a:xfrm>
            <a:off x="678672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96DD-A933-40BD-BC8B-76FD3B3B2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Источники финансирования дефицита бюджета в 2016 году (тыс.руб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7329600" cy="4043520"/>
        </p:xfrm>
        <a:graphic>
          <a:graphicData uri="http://schemas.openxmlformats.org/drawingml/2006/table">
            <a:tbl>
              <a:tblPr/>
              <a:tblGrid>
                <a:gridCol w="4257720"/>
                <a:gridCol w="3071880"/>
              </a:tblGrid>
              <a:tr h="93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d4de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d4deff"/>
                        </a:gs>
                      </a:gsLst>
                      <a:lin ang="5400000"/>
                    </a:gradFill>
                  </a:tcPr>
                </a:tc>
              </a:tr>
              <a:tr h="1241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прочих остатков денежных средств бюджетов 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9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ьшение прочих остатков денежных средств бюджетов 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источников финансирования дефиц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1031-4A0C-47EA-99E4-D41EE5BF3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намика расходов бюджета муниципального образования поселок Заполярный на 2016 году в сравнении с 2015 го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5" descr=""/>
          <p:cNvPicPr/>
          <p:nvPr/>
        </p:nvPicPr>
        <p:blipFill>
          <a:blip r:embed="rId1"/>
          <a:stretch/>
        </p:blipFill>
        <p:spPr>
          <a:xfrm>
            <a:off x="507960" y="1676520"/>
            <a:ext cx="8128080" cy="4371840"/>
          </a:xfrm>
          <a:prstGeom prst="rect">
            <a:avLst/>
          </a:prstGeom>
          <a:ln w="0">
            <a:noFill/>
          </a:ln>
        </p:spPr>
      </p:pic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EABC-417F-4168-B5F6-E39AA13B3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pic>
        <p:nvPicPr>
          <p:cNvPr id="99" name="Выгнутая вправо стрелка 4" descr=""/>
          <p:cNvPicPr/>
          <p:nvPr/>
        </p:nvPicPr>
        <p:blipFill>
          <a:blip r:embed="rId2"/>
          <a:stretch/>
        </p:blipFill>
        <p:spPr>
          <a:xfrm>
            <a:off x="6967440" y="2109960"/>
            <a:ext cx="1640160" cy="238896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42CF-EDC2-413E-99A9-175F8970F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ечень муниципальных программ, ассигнования на реализацию которых предусмотрены в проекте бюджета муниципального образования поселок Заполярный на 2016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214280"/>
          <a:ext cx="7715160" cy="5102280"/>
        </p:xfrm>
        <a:graphic>
          <a:graphicData uri="http://schemas.openxmlformats.org/drawingml/2006/table">
            <a:tbl>
              <a:tblPr/>
              <a:tblGrid>
                <a:gridCol w="569880"/>
                <a:gridCol w="5645160"/>
                <a:gridCol w="1500120"/>
              </a:tblGrid>
              <a:tr h="107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качественными услугами жилищно-коммунального хозяй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Безопасный посело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сновные направления развития культуры муниципального образования поселок Заполярн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физической культуры и спорт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еализация молодежной полити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качественным жилье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правление муниципальным имуществом муниципального образования поселок Заполярн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3" name="Номер слайда 3"/>
          <p:cNvSpPr/>
          <p:nvPr/>
        </p:nvSpPr>
        <p:spPr>
          <a:xfrm>
            <a:off x="68580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C56E-6062-47C8-83D6-147873B7B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85840" y="142920"/>
          <a:ext cx="7786440" cy="2819520"/>
        </p:xfrm>
        <a:graphic>
          <a:graphicData uri="http://schemas.openxmlformats.org/drawingml/2006/table">
            <a:tbl>
              <a:tblPr/>
              <a:tblGrid>
                <a:gridCol w="569880"/>
                <a:gridCol w="5430960"/>
                <a:gridCol w="1785600"/>
              </a:tblGrid>
              <a:tr h="1071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правление муниципальными финансами и совершенствование муниципального управл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Защита населения и территории муниципального образования Заполярный от чрезвычайных ситуаций  и обеспечение пожарной безопасно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2"/>
          <p:cNvSpPr/>
          <p:nvPr/>
        </p:nvSpPr>
        <p:spPr>
          <a:xfrm>
            <a:off x="68580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10D7-BC6B-4295-8E8E-CEC239BC96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Структура расходов проекта бюджета муниципального образования поселок Заполярный на 2016 год в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разрезе отрас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6" descr=""/>
          <p:cNvPicPr/>
          <p:nvPr/>
        </p:nvPicPr>
        <p:blipFill>
          <a:blip r:embed="rId1"/>
          <a:stretch/>
        </p:blipFill>
        <p:spPr>
          <a:xfrm>
            <a:off x="507960" y="836640"/>
            <a:ext cx="8371080" cy="5521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00040" y="80496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сего расходов 37701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ыс. руб., в том чис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233A-A678-4E1F-9A3E-C40FE7DCB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58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Times New Roman"/>
              </a:rPr>
              <a:t>Структура расходов, предусмотренных в проекте бюджета муниципального образования поселок Заполярный на 2016 год на обеспечение текущей деятельности Администрации МО поселок Заполяр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6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7929720" cy="5643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500040" y="78588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сходов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17 578 тыс. руб., в том чис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E41C-48E5-4D54-BF0E-BAFB71E19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28760" y="6335640"/>
            <a:ext cx="77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суммы планируемых ассигнований в рамках муниципальных программ –17 578 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Вводная ч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14240" y="713880"/>
            <a:ext cx="79725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 целях реализации принципа прозрачности (открытости) бюджетной системы Российской Федерации и обеспечения полного и доступного информирования граждан о бюджете муниципального образования поселок Заполярный, в соответствии с Бюджетным кодексом Российской Федерации и Уставом муниципального образования поселок Заполярный, составлен «Бюджет для граждан» на 2016 год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«Бюджет для граждан»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- информационный ресурс, содержащий основные положения проекта бюджета  (решения) о бюджете, об его исполнении за отчетный финансовый год) муниципального образования поселок Заполярный в доступной для широкого круга заинтересованных пользователей форме. Его цель - познакомить граждан с основными целями, задачами и приоритетными направлениями бюджетной политики, обоснованиями бюджетных расходов, планируемыми и достигнутыми результатами использования бюджетных ассигновани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Бюджетным кодексом Российской Федерации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бюджетом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Бюджет состоит из трех основных частей: доходов, расходов и источников финансирования дефицита бюдже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д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оходами бюдже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понимаются денежные средств, поступающие в бюджет в безвозмездном и безвозвратном порядке в соответствии с законодательством Российской Федераци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Бюджетным кодексом РФ доходы бюджета образуются за счет налоговых и неналоговых доходов, а также за счет безвозмездных поступлени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Расходы бюдже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- это выплачиваемые из бюджета денежные средства, которые направляются на финансовое обеспечение задач и функций государственной власти и местного самоуправлен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бюдже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- превышение расходов бюджета над его дохода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0A74-C5E1-4A48-BFE1-0D7D4C80C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357120" y="214200"/>
            <a:ext cx="864396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он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работы приёмной администрации : понедельник-пятница с 8-30 до 12-30 и с 14-00 до 17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: 513-8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 электронной почты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polyarny@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ца, ответственные за формирование бюджета для гражд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дующий сектором экономики и бухгалтерского учета – Красножен Юлия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специалист-экономист – Ходыкина Дарья Серг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й специалист-бухгалтер – Савельева Ольг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A877-4EC6-4782-9156-665C80A9FD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14240" y="857160"/>
            <a:ext cx="79725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Бюджетные ассигнования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- предельные объемы денежных средств, предусмотренных в соответствующем финансовом году для исполнения бюджетных обязательст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Бюджетные обязательств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- расходные обязательства, подлежащие исполнению в соответствующем финансовом год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Расходные обязательств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- обусловленные законом, иным нормативным правовым актом, договором или соглашением обязанности муниципального образования или действующего от его имени казенного учреждения предоставить физическому или юридическому лицу, иному публично-правовому образованию, субъекту международного права средства из бюдже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Межбюджетные отношения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это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Межбюджетные трансферт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средства, предоставляемые одним бюджетом бюджетной системы Российской Федерации другому бюджету бюджетной системы Российской Федераци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убвенции бюджетам субъектов Российской Федерации из федерального бюдже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это межбюджетные трансферты, предоставляемые бюджетам субъектов Российской Федерации в целях финансового обеспечения расходных обязательств субъектов Российской Федерации и (или) муниципальных образований, возникающих при выполнении полномочий Российской Федерации, переданных для осуществления органам государственной власти субъектов Российской Федерации и (или) органам местного самоуправления в установленном порядк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убвенции местным бюджетам из бюджета субъекта Российской Федераци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это межбюджетные трансферты, предоставляемые местным бюджетам в целях финансового обеспечения расходных обязательств муниципальных образований, возникающих при выполнении государственных полномочий Российской Федерации, субъектов Российской Федерации, переданных для осуществления органам местного самоуправления в установленном порядк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DBC0-556E-457D-A3BA-BD5CE1BE1B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14240" y="356760"/>
            <a:ext cx="79725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убсидии бюджетам субъектов Российской Федерации из федерального бюдже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это межбюджетные трансферты, предоставляемые бюджетам субъектов Российской Федерации в целях софинансирования расходных обязательств, возникающих при выполнении полномочий органов государственной власти субъектов Российской Федерации по предметам ведения субъектов Российской Федерации и предметам совместного ведения Российской Федерации и субъектов Российской Федерации, и расходных обязательств по выполнению полномочий органов местного самоуправления по вопросам местного значен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екущий финансовый год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год, в котором осуществляется исполнение бюджета, составление и рассмотрение проекта бюджета на очередной финансовый год (очередной финансовый год и плановый период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Очередной финансовый год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год, следующий за текущим финансовым год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лановый период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два финансовых года, следующие за очередным финансовым год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Граждане муниципального образования поселок Заполярный могут принимать участие в общественном обсуждении проекта решения о бюджете муниципального образования поселок Заполярный на 2016 год в рамках публичных слушаний по проекту бюджета путем внесения своих замечаний и предложени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ция поселка Заполярный информирует, что публичные слушания по вопросу рассмотрения проекта бюджета муниципального образования поселок Заполярный на 2016 год состоятся в 17 час. 00 мин. 8 декабря 2015 года в здании Администрации муниципального образования поселок Заполярны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муниципального образования поселок Заполярный и участники публичных слушаний могут ознакомиться с проектом бюджета, внести свои замечания и предложения с 8.30 - 12.30 и с 14.00 - 17.30 (кроме субботы и воскресенья), по адресу: ЯНАО, Надымский район, поселок Заполярный, а также на официальном интернет-сайте Администрации поселка Заполярный: </a:t>
            </a:r>
            <a:r>
              <a:rPr b="0" lang="en-US" sz="1400" spc="-1" strike="noStrike" u="sng">
                <a:solidFill>
                  <a:srgbClr val="17375e"/>
                </a:solidFill>
                <a:uFillTx/>
                <a:latin typeface="Calibri"/>
              </a:rPr>
              <a:t>http</a:t>
            </a:r>
            <a:r>
              <a:rPr b="0" lang="ru-RU" sz="1400" spc="-1" strike="noStrike" u="sng">
                <a:solidFill>
                  <a:srgbClr val="17375e"/>
                </a:solidFill>
                <a:uFillTx/>
                <a:latin typeface="Calibri"/>
              </a:rPr>
              <a:t>://</a:t>
            </a:r>
            <a:r>
              <a:rPr b="0" lang="en-US" sz="1400" spc="-1" strike="noStrike" u="sng">
                <a:solidFill>
                  <a:srgbClr val="17375e"/>
                </a:solidFill>
                <a:uFillTx/>
                <a:latin typeface="Calibri"/>
              </a:rPr>
              <a:t>zapolyarny</a:t>
            </a:r>
            <a:r>
              <a:rPr b="0" lang="ru-RU" sz="1400" spc="-1" strike="noStrike" u="sng">
                <a:solidFill>
                  <a:srgbClr val="17375e"/>
                </a:solidFill>
                <a:uFillTx/>
                <a:latin typeface="Calibri"/>
              </a:rPr>
              <a:t>-</a:t>
            </a:r>
            <a:r>
              <a:rPr b="0" lang="en-US" sz="1400" spc="-1" strike="noStrike" u="sng">
                <a:solidFill>
                  <a:srgbClr val="17375e"/>
                </a:solidFill>
                <a:uFillTx/>
                <a:latin typeface="Calibri"/>
              </a:rPr>
              <a:t>adm</a:t>
            </a:r>
            <a:r>
              <a:rPr b="0" lang="ru-RU" sz="1400" spc="-1" strike="noStrike" u="sng">
                <a:solidFill>
                  <a:srgbClr val="17375e"/>
                </a:solidFill>
                <a:uFillTx/>
                <a:latin typeface="Calibri"/>
              </a:rPr>
              <a:t>.</a:t>
            </a:r>
            <a:r>
              <a:rPr b="0" lang="en-US" sz="1400" spc="-1" strike="noStrike" u="sng">
                <a:solidFill>
                  <a:srgbClr val="17375e"/>
                </a:solidFill>
                <a:uFillTx/>
                <a:latin typeface="Calibri"/>
              </a:rPr>
              <a:t>ru</a:t>
            </a:r>
            <a:r>
              <a:rPr b="0" lang="ru-RU" sz="1400" spc="-1" strike="noStrike" u="sng">
                <a:solidFill>
                  <a:srgbClr val="17375e"/>
                </a:solidFill>
                <a:uFillTx/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A7F1-4E5A-41D2-BD65-AD2AE8372D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19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бщие характеристики проекта бюджета муницип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оселок Заполярный на 2016 год</a:t>
            </a:r>
            <a:br>
              <a:rPr sz="2000"/>
            </a:b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            тыс.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12" descr=""/>
          <p:cNvPicPr/>
          <p:nvPr/>
        </p:nvPicPr>
        <p:blipFill>
          <a:blip r:embed="rId1"/>
          <a:stretch/>
        </p:blipFill>
        <p:spPr>
          <a:xfrm>
            <a:off x="325440" y="985680"/>
            <a:ext cx="8634240" cy="4110120"/>
          </a:xfrm>
          <a:prstGeom prst="rect">
            <a:avLst/>
          </a:prstGeom>
          <a:ln w="0">
            <a:noFill/>
          </a:ln>
        </p:spPr>
      </p:pic>
      <p:pic>
        <p:nvPicPr>
          <p:cNvPr id="52" name="Схема 14" descr=""/>
          <p:cNvPicPr/>
          <p:nvPr/>
        </p:nvPicPr>
        <p:blipFill>
          <a:blip r:embed="rId2"/>
          <a:stretch/>
        </p:blipFill>
        <p:spPr>
          <a:xfrm>
            <a:off x="396720" y="5241960"/>
            <a:ext cx="8326440" cy="1274760"/>
          </a:xfrm>
          <a:prstGeom prst="rect">
            <a:avLst/>
          </a:prstGeom>
          <a:ln w="0">
            <a:noFill/>
          </a:ln>
        </p:spPr>
      </p:pic>
      <p:sp>
        <p:nvSpPr>
          <p:cNvPr id="53" name="Номер слайда 5"/>
          <p:cNvSpPr/>
          <p:nvPr/>
        </p:nvSpPr>
        <p:spPr>
          <a:xfrm>
            <a:off x="678672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B494-D963-400A-863E-AB906AACC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68360" y="655560"/>
          <a:ext cx="7103880" cy="5407200"/>
        </p:xfrm>
        <a:graphic>
          <a:graphicData uri="http://schemas.openxmlformats.org/drawingml/2006/table">
            <a:tbl>
              <a:tblPr/>
              <a:tblGrid>
                <a:gridCol w="3389400"/>
                <a:gridCol w="928440"/>
                <a:gridCol w="928800"/>
                <a:gridCol w="928800"/>
                <a:gridCol w="928440"/>
              </a:tblGrid>
              <a:tr h="542520"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>
                        <a:lnSpc>
                          <a:spcPts val="14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остоянного населения (на конец год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>
                        <a:lnSpc>
                          <a:spcPts val="14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6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2520">
                <a:tc>
                  <a:txBody>
                    <a:bodyPr lIns="68760" rIns="68760" tIns="0" bIns="0" anchor="ctr">
                      <a:noAutofit/>
                    </a:bodyPr>
                    <a:p>
                      <a:pPr marL="3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потребительских цен в среднем за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120">
                <a:tc>
                  <a:txBody>
                    <a:bodyPr lIns="68760" rIns="68760" tIns="0" bIns="0" anchor="ctr">
                      <a:noAutofit/>
                    </a:bodyPr>
                    <a:p>
                      <a:pPr marL="14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трудовых ресур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76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детей в возрасте до 18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человек, работающих вахтовым мето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житочный минимум в среднем на душу населения (среднегодово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620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муниципального жилищного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малого и среднего предпринимательства в расчете на 10 тыс. человек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144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аботников малых и средних предприятий в численности работников всех предприятий и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C72F-5BE0-4633-A8E4-E0FB3D094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42960" y="7128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оказатели прогноза социально-экономического развития муниципального образования поселок Заполярный на 2016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  <a:ea typeface="Times New Roman"/>
              </a:rPr>
              <a:t>Доходы муниципального образования поселок Заполяр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гноз доходов бюджета города на 2016 год определён исходя из действующего налогового и бюджетного законодательства Российской Федерации, Ямало-Ненецкого автономного округа, Надымского района и муниципальных правовых актов органов местного самоуправления поселок Заполярный с учётом изменений, вступающих в силу с очередного финансового го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ъём доходов проекта бюджета города на 2016 год прогнозируется в общей сумме 37 701 тыс. рублей. Налоговые и неналоговые доходы составляют 16 692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ыс. рублей, безвозмездные поступления – 21 009 тыс. руб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F59E-14AA-40E0-B5C0-75D740F99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труктура доходов бюджета муниципального образования поселок Заполярный на 2016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7500960" cy="4929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786040" y="214308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 692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14200" y="200016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1 009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BAFC-6686-46EF-924E-64362F76A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ъём налоговых и неналоговых доходов проекта бюджета поселения на 2016 год спрогнозирован в сумме 16 692 тыс. рублей: налоговых доходов – 15 646 тыс. рублей, неналоговых доходов – 1 046 тыс. руб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сновой формирования объёма налоговых и неналоговых доходов бюджета в 2016 году являются налоговые поступления, большая часть которых формируется за счёт налога на доходы физических лиц – 15 547 тыс. руб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бъёмными источниками неналоговых доходов являются доходы от сдачи в аренду имущества, составляющего государственную (муниципальную) казну (за исключением  земельных участков) - 686 тыс.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ряду с этим установлено зачисление в местный бюджет доходов от компенсации затрат бюджетов поселен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ами местного самоуправления проводится  системная работа, направленная на увеличение доходной базы бюджета, основными направлениями которой являю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увеличение поступлений по основному бюджетообразующему доходному источнику – налогу на доходы физических лиц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укрепление налоговой дисциплины и сокращение недоимки по налоговым платежам в бюджет поселк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эффективное использование муниципального имущества и земельных ресурс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A02F-039E-4378-9426-5FF267B64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3:59:15Z</dcterms:created>
  <dc:creator>Юра</dc:creator>
  <dc:description/>
  <dc:language>en-US</dc:language>
  <cp:lastModifiedBy>buhgalter</cp:lastModifiedBy>
  <dcterms:modified xsi:type="dcterms:W3CDTF">2015-12-29T08:39:43Z</dcterms:modified>
  <cp:revision>281</cp:revision>
  <dc:subject/>
  <dc:title>Исполнение бюджета муниципального образования город Ульяновск</dc:title>
</cp:coreProperties>
</file>