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6E9-67D7-4D9A-891D-40DED1DD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83C-434B-40F9-8E05-7762B93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DC2-FE3F-4F42-BB9F-8C68FC76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B53-CE1B-4645-8A79-7E83E095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1E4-7CB6-4A03-9757-5D52C1E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986-7458-4EF0-B6FD-90D41BE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83B-27E4-4FCE-B8B6-DDABAA25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85D-C80F-4D4F-822A-E3752BC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147-DF75-49CB-8308-0E1A0443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67E-406E-4A58-AF2D-3B2A066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E90-B3B1-4334-9932-C581936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5C3-5DEF-40CE-82A7-0406193A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D48-5DAD-4EE4-B6B8-CE98C1121B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23A-A50F-4F19-8830-11037E9A0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731000" cy="38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Calibri"/>
              </a:rPr>
              <a:t>Информация для граждан</a:t>
            </a:r>
            <a:br>
              <a:rPr sz="3200"/>
            </a:br>
            <a:r>
              <a:rPr b="1" i="1" lang="ru-RU" sz="3200" spc="-1" strike="noStrike">
                <a:solidFill>
                  <a:srgbClr val="262626"/>
                </a:solidFill>
                <a:latin typeface="Calibri"/>
              </a:rPr>
              <a:t>о проекте бюджета</a:t>
            </a:r>
            <a:br>
              <a:rPr sz="3200"/>
            </a:br>
            <a:r>
              <a:rPr b="1" i="1" lang="ru-RU" sz="3200" spc="-1" strike="noStrike">
                <a:solidFill>
                  <a:srgbClr val="262626"/>
                </a:solidFill>
                <a:latin typeface="Calibri"/>
              </a:rPr>
              <a:t>муниципального образования поселок Заполярный</a:t>
            </a:r>
            <a:br>
              <a:rPr sz="3200"/>
            </a:br>
            <a:r>
              <a:rPr b="1" i="1" lang="ru-RU" sz="3200" spc="-1" strike="noStrike">
                <a:solidFill>
                  <a:srgbClr val="262626"/>
                </a:solidFill>
                <a:latin typeface="Calibri"/>
              </a:rPr>
              <a:t>на 2014 год и плановый период </a:t>
            </a:r>
            <a:br>
              <a:rPr sz="3200"/>
            </a:br>
            <a:r>
              <a:rPr b="1" i="1" lang="ru-RU" sz="3200" spc="-1" strike="noStrike">
                <a:solidFill>
                  <a:srgbClr val="262626"/>
                </a:solidFill>
                <a:latin typeface="Calibri"/>
              </a:rPr>
              <a:t>2015 и 2016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Структура налоговых и неналоговых доходов проекта бюджета на 2014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8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572680" cy="585756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DF0-B7A7-49D9-9539-AC1102E50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Динамика налоговых и неналоговых  доходов  (2012 – 2016 годы)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272880" y="1071720"/>
            <a:ext cx="8715600" cy="4714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28800" y="5357880"/>
            <a:ext cx="1500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57160" y="1357200"/>
          <a:ext cx="714600" cy="28584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500880" y="1428840"/>
          <a:ext cx="879480" cy="28584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071800" y="1357200"/>
          <a:ext cx="714240" cy="285840"/>
        </p:xfrm>
        <a:graphic>
          <a:graphicData uri="http://schemas.openxmlformats.org/drawingml/2006/table">
            <a:tbl>
              <a:tblPr/>
              <a:tblGrid>
                <a:gridCol w="71424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214800" y="1341360"/>
          <a:ext cx="714240" cy="287280"/>
        </p:xfrm>
        <a:graphic>
          <a:graphicData uri="http://schemas.openxmlformats.org/drawingml/2006/table">
            <a:tbl>
              <a:tblPr/>
              <a:tblGrid>
                <a:gridCol w="714240"/>
              </a:tblGrid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29080" y="1268280"/>
          <a:ext cx="714600" cy="28908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72080" y="1125360"/>
          <a:ext cx="714600" cy="35892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117C-6D64-4068-A9D5-270B0E01B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Динамика безвозмездных поступлений, передаваемых из бюджета Администрации МО Надымский район в бюджет МО поселок Заполярный в 2014 году в сравнении с 2013 годом (тыс.руб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5429160" y="928800"/>
            <a:ext cx="3400560" cy="1900080"/>
          </a:xfrm>
          <a:prstGeom prst="rect">
            <a:avLst/>
          </a:prstGeom>
          <a:ln w="0">
            <a:noFill/>
          </a:ln>
        </p:spPr>
      </p:pic>
      <p:pic>
        <p:nvPicPr>
          <p:cNvPr id="91" name="Object 5" descr=""/>
          <p:cNvPicPr/>
          <p:nvPr/>
        </p:nvPicPr>
        <p:blipFill>
          <a:blip r:embed="rId2"/>
          <a:stretch/>
        </p:blipFill>
        <p:spPr>
          <a:xfrm>
            <a:off x="5500800" y="4429080"/>
            <a:ext cx="34290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6" descr=""/>
          <p:cNvPicPr/>
          <p:nvPr/>
        </p:nvPicPr>
        <p:blipFill>
          <a:blip r:embed="rId3"/>
          <a:stretch/>
        </p:blipFill>
        <p:spPr>
          <a:xfrm>
            <a:off x="0" y="714240"/>
            <a:ext cx="5214960" cy="4143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8"/>
          <p:cNvSpPr/>
          <p:nvPr/>
        </p:nvSpPr>
        <p:spPr>
          <a:xfrm>
            <a:off x="5643720" y="6000840"/>
            <a:ext cx="33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тации на выравнивание уровня бюджетной обеспеч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ject 8" descr=""/>
          <p:cNvPicPr/>
          <p:nvPr/>
        </p:nvPicPr>
        <p:blipFill>
          <a:blip r:embed="rId4"/>
          <a:stretch/>
        </p:blipFill>
        <p:spPr>
          <a:xfrm>
            <a:off x="142920" y="4786200"/>
            <a:ext cx="5043600" cy="190044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28"/>
          <p:cNvCxnSpPr/>
          <p:nvPr/>
        </p:nvCxnSpPr>
        <p:spPr>
          <a:xfrm flipH="1" flipV="1">
            <a:off x="3714480" y="3714120"/>
            <a:ext cx="714960" cy="150084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96" name="Прямая со стрелкой 29"/>
          <p:cNvCxnSpPr/>
          <p:nvPr/>
        </p:nvCxnSpPr>
        <p:spPr>
          <a:xfrm flipH="1" flipV="1">
            <a:off x="3785400" y="3499560"/>
            <a:ext cx="1715400" cy="142956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97" name="Прямая со стрелкой 30"/>
          <p:cNvCxnSpPr/>
          <p:nvPr/>
        </p:nvCxnSpPr>
        <p:spPr>
          <a:xfrm flipH="1" flipV="1">
            <a:off x="3857040" y="3285360"/>
            <a:ext cx="1572120" cy="252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98" name="Прямая со стрелкой 31"/>
          <p:cNvCxnSpPr/>
          <p:nvPr/>
        </p:nvCxnSpPr>
        <p:spPr>
          <a:xfrm flipH="1" flipV="1">
            <a:off x="3785400" y="2141280"/>
            <a:ext cx="1786680" cy="2160"/>
          </a:xfrm>
          <a:prstGeom prst="straightConnector1">
            <a:avLst/>
          </a:prstGeom>
          <a:ln w="2556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99" name="Номер слайда 19"/>
          <p:cNvSpPr/>
          <p:nvPr/>
        </p:nvSpPr>
        <p:spPr>
          <a:xfrm>
            <a:off x="678672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51B-F845-4509-9A77-C1C417701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Источники финансирования дефицита бюджета в 2014 году и плановом периоде 2015 и 2016 годов (тыс.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258040" cy="4043520"/>
        </p:xfrm>
        <a:graphic>
          <a:graphicData uri="http://schemas.openxmlformats.org/drawingml/2006/table">
            <a:tbl>
              <a:tblPr/>
              <a:tblGrid>
                <a:gridCol w="3635280"/>
                <a:gridCol w="1540080"/>
                <a:gridCol w="1541520"/>
                <a:gridCol w="1541160"/>
              </a:tblGrid>
              <a:tr h="466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d4deff"/>
                        </a:gs>
                      </a:gsLst>
                      <a:lin ang="5400000"/>
                    </a:gradFill>
                  </a:tcPr>
                </a:tc>
              </a:tr>
              <a:tr h="124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чих остатков денежных средств бюджетов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3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ение прочих остатков денежных средств бюджетов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источников финансирования дефиц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F107-004C-4A7D-9F83-69ED84A98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инамика расходов бюджета муниципального образования поселок Заполярный на 2014 году в сравнении с 2013 го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8229600" cy="4473360"/>
          </a:xfrm>
          <a:prstGeom prst="rect">
            <a:avLst/>
          </a:prstGeom>
          <a:ln w="0">
            <a:noFill/>
          </a:ln>
        </p:spPr>
      </p:pic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81F5-4565-4004-BA17-BA8091522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108" name="Выгнутая вправо стрелка 4" descr=""/>
          <p:cNvPicPr/>
          <p:nvPr/>
        </p:nvPicPr>
        <p:blipFill>
          <a:blip r:embed="rId2"/>
          <a:stretch/>
        </p:blipFill>
        <p:spPr>
          <a:xfrm>
            <a:off x="6967440" y="2109960"/>
            <a:ext cx="1652760" cy="238896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334-4BAF-477C-84DF-D1EB87C49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еречень муниципальных программ, ассигнования на реализацию которых предусмотрены в проекте бюджета муниципального образования поселок Заполярный на 2014 год и плановый период 2015 и 2016 г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5840" y="1214280"/>
          <a:ext cx="8561160" cy="5102280"/>
        </p:xfrm>
        <a:graphic>
          <a:graphicData uri="http://schemas.openxmlformats.org/drawingml/2006/table">
            <a:tbl>
              <a:tblPr/>
              <a:tblGrid>
                <a:gridCol w="569880"/>
                <a:gridCol w="4427640"/>
                <a:gridCol w="1187280"/>
                <a:gridCol w="1189080"/>
                <a:gridCol w="1187280"/>
              </a:tblGrid>
              <a:tr h="107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качественными услугами жилищно-коммунального хозяйст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Безопасный посело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сновные направления развития культуры муниципального образования поселок Заполяр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еализация молодежной полит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качественным жилье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муниципального образования поселок Заполяр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Номер слайда 3"/>
          <p:cNvSpPr/>
          <p:nvPr/>
        </p:nvSpPr>
        <p:spPr>
          <a:xfrm>
            <a:off x="68580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01CE-900C-4E8C-9A65-5CF928E0D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85840" y="142920"/>
          <a:ext cx="8643960" cy="2819520"/>
        </p:xfrm>
        <a:graphic>
          <a:graphicData uri="http://schemas.openxmlformats.org/drawingml/2006/table">
            <a:tbl>
              <a:tblPr/>
              <a:tblGrid>
                <a:gridCol w="569880"/>
                <a:gridCol w="4573440"/>
                <a:gridCol w="1166760"/>
                <a:gridCol w="1167120"/>
                <a:gridCol w="1166760"/>
              </a:tblGrid>
              <a:tr h="1071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и финансами и совершенствование муниципального управл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Защита населения и территории муниципального образования Заполярный от чрезвычайных ситуаций  и обеспечение пожарной безопас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4" name="Номер слайда 2"/>
          <p:cNvSpPr/>
          <p:nvPr/>
        </p:nvSpPr>
        <p:spPr>
          <a:xfrm>
            <a:off x="68580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096-D0B8-47B4-878B-2149EBB35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Структура расходов проекта бюджета муниципального образования поселок Заполярный на 2014 год в</a:t>
            </a:r>
            <a:r>
              <a:rPr b="1" lang="en-US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разрезе отрас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6" descr=""/>
          <p:cNvPicPr/>
          <p:nvPr/>
        </p:nvPicPr>
        <p:blipFill>
          <a:blip r:embed="rId1"/>
          <a:stretch/>
        </p:blipFill>
        <p:spPr>
          <a:xfrm>
            <a:off x="457200" y="785880"/>
            <a:ext cx="847260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500040" y="80496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его расходов 30586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с. руб., 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CF65-10AE-4E9F-8973-C76D85088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Times New Roman"/>
              </a:rPr>
              <a:t>Структура расходов, предусмотренных в проекте бюджета муниципального образования поселок Заполярный на 2014 год на обеспечение текущей деятельности Администрации МО поселок Заполяр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6" descr=""/>
          <p:cNvPicPr/>
          <p:nvPr/>
        </p:nvPicPr>
        <p:blipFill>
          <a:blip r:embed="rId1"/>
          <a:stretch/>
        </p:blipFill>
        <p:spPr>
          <a:xfrm>
            <a:off x="449280" y="663480"/>
            <a:ext cx="8031240" cy="5745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00040" y="785880"/>
            <a:ext cx="52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ходов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15 842 тыс. руб., 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2246-B4A2-4E6C-9A8A-1CCBCF12D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28760" y="633564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суммы планируемых ассигнований в рамках муниципальных программ –15 842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Вводная 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целях реализации принципа прозрачности (открытости) бюджетной системы Российской Федерации и обеспечения полного и доступного информирования граждан о бюджете муниципального образования поселок Заполярный, в соответствии с Бюджетным кодексом Российской Федерации и Уставом муниципального образования поселок Заполярный, составлен «Бюджет для граждан» на 2014 год и плановый период 2015 и 2016 год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«Бюджет для граждан» - информационный ресурс, содержащий основные положения проекта бюджета  (решения) о бюджете, об его исполнении за отчетный финансовый год) муниципального образования поселок Заполярный в доступной для широкого круга заинтересованных пользователей форме. Его цель - познакомить граждан с основными целями, задачами и приоритетными направлениями бюджетной политики, обоснованиями бюджетных расходов, планируемыми и достигнутыми результатами использования бюджетных ассигнова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Бюджетным кодексом Российской Федерации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ом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 состоит из трех основных частей: доходов, расходов и источников финансирования дефицита бюдже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д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оходами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понимаются денежные средств, поступающие в бюджет в безвозмездном и безвозвратном порядке в соответствии с законодательством Российской Федерац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Бюджетным кодексом РФ доходы бюджета образуются за счет налоговых и неналоговых доходов, а также за счет безвозмездных поступле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Расходы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это выплачиваемые из бюджета денежные средства, которые направляются на финансовое обеспечение задач и функций государственной власти и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680" indent="53676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превышение расходов бюджета над его дохода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38C-9BE7-455B-A3F0-F8CCAFAA1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57120" y="214200"/>
            <a:ext cx="864396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Информацион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Режим работы приёмной администрации : понедельник-пятница с 8-30 до 12-30 и с 14-00 до 17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Телефон: 513-8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Адрес электронной почты: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zapolyarny@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Arial"/>
              </a:rPr>
              <a:t>Лица, ответственные за формирование бюджета для граждан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Заведующий сектором экономики и бухгалтерского учета – Красножен Юлия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Главный специалист-экономист – Ходыкина Дарья Серг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Ведущий специалист-бухгалтер – Фролова Елена Сергеевна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9E8-14EE-4800-B23B-E14BB7007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14240" y="857160"/>
            <a:ext cx="79725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ные ассигновани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предельные объемы денежных средств, предусмотренных в соответствующем финансовом году для исполнения бюджетных обязательст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Бюджетные обяз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расходные обязательства, подлежащие исполнению в соответствующем финансовом год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Расходные обяз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- обусловленные законом, иным нормативным правовым актом, договором или соглашением обязанности муниципального образования или действующего от его имени казенного учреждения предоставить физическому или юридическому лицу, иному публично-правовому образованию, субъекту международного права средства из бюдже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Межбюджетные отношения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Межбюджетные трансферт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средства, предоставляемые одним бюджетом бюджетной системы Российской Федерации другому бюджету бюджетной системы Российской Федерац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венции бюджетам субъектов Российской Федерации из федерального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бюджетам субъектов Российской Федерации в целях финансового обеспечения расходных обязательств субъектов Российской Федерации и (или) муниципальных образований, возникающих при выполнении полномочий Российской Федерации, переданных для осуществления органам государственной власти субъектов Российской Федерации и (или) органам местного самоуправления в установленном поряд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венции местным бюджетам из бюджета субъекта Российской Федераци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местным бюджетам в целях финансового обеспечения расходных обязательств муниципальных образований, возникающих при выполнении государственных полномочий Российской Федерации, субъектов Российской Федерации, переданных для осуществления органам местного самоуправления в установленном поряд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BFBC-3532-4179-842F-46F9B4770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14240" y="356760"/>
            <a:ext cx="79725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убсидии бюджетам субъектов Российской Федерации из федерального бюдже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это межбюджетные трансферты, предоставляемые бюджетам субъектов Российской Федерации в целях софинансирования расходных обязательств, возникающих при выполнении полномочий органов государственной власти субъектов Российской Федерации по предметам ведения субъектов Российской Федерации и предметам совместного ведения Российской Федерации и субъектов Российской Федерации, и расходных обязательств по выполнению полномочий органов местного самоуправления по вопросам местного значен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кущий финансовый г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год, в котором осуществляется исполнение бюджета, составление и рассмотрение проекта бюджета на очередной финансовый год (очередной финансовый год и плановый период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чередной финансовый г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год, следующий за текущим финансовым год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лановый период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– два финансовых года, следующие за очередным финансовым год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Граждане муниципального образования поселок Заполярный могут принимать участие в общественном обсуждении проекта решения о бюджете муниципального образования поселок Заполярный на 2014 год и плановый период 2015 и 2016 годов в рамках публичных слушаний по проекту бюджета путем внесения своих замечаний и предложен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я поселка Заполярный информирует, что публичные слушания по вопросу рассмотрения проекта бюджета муниципального образования поселок Заполярный на 2014 год и на плановый период 2015 и 2016 годов состоятся в 17 час. 00 мин. 9 декабря 2013 года в здании Администрации муниципального образования поселок Заполярны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муниципального образования поселок Заполярный и участники публичных слушаний могут ознакомиться с проектом бюджета, внести свои замечания и предложения с 8.30 - 12.30 и с 14.00 - 17.30 (кроме субботы и воскресенья), по адресу: ЯНАО, Надымский район, поселок Заполярный, а также на официальном интернет-сайте Администрации поселка Заполярный: 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http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://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zapolyarny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-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adm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r>
              <a:rPr b="0" lang="en-US" sz="1400" spc="-1" strike="noStrike" u="sng">
                <a:solidFill>
                  <a:srgbClr val="17375e"/>
                </a:solidFill>
                <a:uFillTx/>
                <a:latin typeface="Calibri"/>
              </a:rPr>
              <a:t>ru</a:t>
            </a:r>
            <a:r>
              <a:rPr b="0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AAF-6166-4B49-AF74-7290DBD09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щие характеристики проекта бюджета муницип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селок Заполярный на 2014 год и плановый период 2015 и 2016 года </a:t>
            </a:r>
            <a:br>
              <a:rPr sz="16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сравнении с первоначальным бюджетом 2013 года</a:t>
            </a:r>
            <a:br>
              <a:rPr sz="2000"/>
            </a:b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            тыс.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12" descr=""/>
          <p:cNvPicPr/>
          <p:nvPr/>
        </p:nvPicPr>
        <p:blipFill>
          <a:blip r:embed="rId1"/>
          <a:stretch/>
        </p:blipFill>
        <p:spPr>
          <a:xfrm>
            <a:off x="272880" y="930240"/>
            <a:ext cx="864396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Схема 14" descr=""/>
          <p:cNvPicPr/>
          <p:nvPr/>
        </p:nvPicPr>
        <p:blipFill>
          <a:blip r:embed="rId2"/>
          <a:stretch/>
        </p:blipFill>
        <p:spPr>
          <a:xfrm>
            <a:off x="396720" y="5241960"/>
            <a:ext cx="8326440" cy="127476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5"/>
          <p:cNvSpPr/>
          <p:nvPr/>
        </p:nvSpPr>
        <p:spPr>
          <a:xfrm>
            <a:off x="678672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917-AF7A-4634-9488-D211F770E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68360" y="655560"/>
          <a:ext cx="8424720" cy="5964480"/>
        </p:xfrm>
        <a:graphic>
          <a:graphicData uri="http://schemas.openxmlformats.org/drawingml/2006/table">
            <a:tbl>
              <a:tblPr/>
              <a:tblGrid>
                <a:gridCol w="2673360"/>
                <a:gridCol w="938160"/>
                <a:gridCol w="655560"/>
                <a:gridCol w="862200"/>
                <a:gridCol w="868320"/>
                <a:gridCol w="793800"/>
                <a:gridCol w="795240"/>
                <a:gridCol w="838080"/>
              </a:tblGrid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­ния (на конец год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потребительских цен в среднем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потребительских цен де­кабрь к декабрю предыдуще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marL="14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трудовых ресур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252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детей в возрасте до 18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человек, работающих вахтовым мето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житочный минимум в среднем на душу населения (среднегодово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6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фонд поселка Заполя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малого и среднего предпринимательства в расчете на 10 тыс. человек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аботников малых и средних предприятий в численности работников всех предприятий и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42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32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37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556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84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024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680"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33C-7ED6-4ACF-918E-9784CBEBF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2960" y="712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казатели прогноза социально-экономического развития муниципального образования поселок Заполярный на 2014 год и на период до 201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  <a:ea typeface="Times New Roman"/>
              </a:rPr>
              <a:t>Доходы муниципального образования поселок Заполяр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 доходов бюджета города на 2014 год и на плановый период 2015-2016 годов определён исходя из действующего налогового и бюджетного законодательства Российской Федерации, Ямало-Ненецкого автономного округа, Надымского района и муниципальных правовых актов органов местного самоуправления поселок Заполярный с учётом изменений, вступающих в силу с очередного финансового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ём доходов проекта бюджета города на 2014 год прогнозируется в общей сумме 30 586 тыс. рублей. Налоговые и неналоговые доходы составляют   14409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ыс. рублей, безвозмездные поступления – 16 177 тыс. рублей. Объём доходов проекта бюджета поселка Заполярный на 2015 год – 29 120 тыс. рублей, на 2016 год – 29 276 тыс. руб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BC3-B1BD-4EEA-8913-B7F105E9E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Структура доходов бюджета на 2014 год и плановый период 2015 и 2016 г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92160" y="878040"/>
            <a:ext cx="5459400" cy="467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357280" y="2143080"/>
            <a:ext cx="214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409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14200" y="20001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 1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F08-B68F-4DF5-89A2-8AA9E9343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3" descr=""/>
          <p:cNvPicPr/>
          <p:nvPr/>
        </p:nvPicPr>
        <p:blipFill>
          <a:blip r:embed="rId2"/>
          <a:stretch/>
        </p:blipFill>
        <p:spPr>
          <a:xfrm>
            <a:off x="5450040" y="806400"/>
            <a:ext cx="3429000" cy="3071880"/>
          </a:xfrm>
          <a:prstGeom prst="rect">
            <a:avLst/>
          </a:prstGeom>
          <a:ln w="0">
            <a:noFill/>
          </a:ln>
        </p:spPr>
      </p:pic>
      <p:pic>
        <p:nvPicPr>
          <p:cNvPr id="66" name="Object 4" descr=""/>
          <p:cNvPicPr/>
          <p:nvPr/>
        </p:nvPicPr>
        <p:blipFill>
          <a:blip r:embed="rId3"/>
          <a:stretch/>
        </p:blipFill>
        <p:spPr>
          <a:xfrm>
            <a:off x="5664240" y="3735360"/>
            <a:ext cx="3143160" cy="3000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7429680" y="1071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299 тыс.р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500800" y="10810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821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285920" y="363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643800" y="2143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6715080" y="498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572080" y="39387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97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7572240" y="392904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 299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ъём налоговых и неналоговых доходов проекта бюджета поселения на 2014 год спрогнозирован в сумме 14 409 тыс. рублей: налоговых доходов – 13 594 тыс. рублей, неналоговых доходов – 815 тыс. ру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новой формирования объёма налоговых и неналоговых доходов бюджета в 2014 году являются налоговые поступления, большая часть которых формируется за счёт налога на доходы физических лиц – 13 538 тыс. руб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бъёмными источниками неналоговых доходов являются доходы получаемые в виде арендной платы за земельные участки, государственная собственность на которые не разграничена и которые расположены в границах поселений 815 тыс.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ряду с этим установлено зачисление в местный бюджет доходов от компенсации затрат бюджетов поселен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ами местного самоуправления проводится  системная работа, направленная на увеличение доходной базы бюджета, основными направлениями которой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увеличение поступлений по основному бюджетообразующему доходному источнику – налогу на доходы физических лиц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укрепление налоговой дисциплины и сокращение недоимки по налоговым платежам в бюджет поселк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эффективное использование муниципального имущества и земельных ресур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882D-1732-488F-9C43-64D686DCE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3:59:15Z</dcterms:created>
  <dc:creator>Юра</dc:creator>
  <dc:description/>
  <dc:language>en-US</dc:language>
  <cp:lastModifiedBy>Yaha</cp:lastModifiedBy>
  <dcterms:modified xsi:type="dcterms:W3CDTF">2013-12-03T17:15:22Z</dcterms:modified>
  <cp:revision>265</cp:revision>
  <dc:subject/>
  <dc:title>Исполнение бюджета муниципального образования город Ульяновск</dc:title>
</cp:coreProperties>
</file>